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777-8333-4BA7-9722-08EBF102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BD3-BAB9-41BF-A214-B541FAF5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1B3-B9F1-4621-8AB6-01FE5FD9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2B7-697D-46BC-BD5A-A5F7A43E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63D-C9F2-4FF5-903C-B4237378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59C-F3BA-4D70-B136-DECA2B3E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4E2-9375-45F0-B15E-5746B0A6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121-B6BC-4594-BDB0-A47C144E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5CF7-085E-4A25-9119-1EFCD4FC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DE8-27E3-4F71-94A1-7638D01A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9D6-7F95-4EFA-BF15-B62B6B46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64D-6DFA-4CA0-AE31-93E10B0F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4BD21-6D25-4900-9A36-21F5452DF85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79280" y="0"/>
            <a:ext cx="1026000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746280"/>
            <a:ext cx="9070920" cy="75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Arial Black"/>
              </a:rPr>
              <a:t>Toda criança no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Arial Black"/>
              </a:rPr>
              <a:t>Deve ser bem proteg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Arial Black"/>
              </a:rPr>
              <a:t>Contra os rigores do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Arial Black"/>
              </a:rPr>
              <a:t>Contra os rigores d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Arial Black"/>
              </a:rPr>
              <a:t>Criança tem que ter 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Arial Black"/>
              </a:rPr>
              <a:t>Criança tem que ter 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Arial Black"/>
              </a:rPr>
              <a:t>Ter saúde e não ter f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Arial Black"/>
              </a:rPr>
              <a:t>Ter segurança e estu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179280" y="2160720"/>
            <a:ext cx="3419280" cy="48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3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3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3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3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3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3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155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1155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115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115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03280" y="1768320"/>
            <a:ext cx="907092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Não é questão de qu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Nem questão de concor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Os diretos das crianç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Todos tem de respei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Tem direito à a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Direito de não ter me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Direito a livros e a pã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Direito de ter brinque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8600" y="1440000"/>
            <a:ext cx="2381040" cy="34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99280" y="2340000"/>
            <a:ext cx="2879640" cy="4680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3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3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3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3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6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6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619280"/>
            <a:ext cx="1008072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Mas criança também 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O direito de sor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Correr na beira do m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Ter lápis de colori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Ver uma estrela cad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Filme que tenha rob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Ganhar um lindo presen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Ouvir histórias do av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800360"/>
            <a:ext cx="3240000" cy="50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3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3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3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2160720"/>
            <a:ext cx="8820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Descer do escorregad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Fazer bolha de sabã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Sorvete, se faz cal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Brincar de adivinh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Morango com chantil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Ver mágico de carto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O canto do bem-te-v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Bola, bola,bola, bol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20720" y="2160720"/>
            <a:ext cx="2519280" cy="41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0360" y="206280"/>
            <a:ext cx="8999640" cy="68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E quando a noite cheg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Um bom banho, bem quentinh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Sensação de bem-esta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De preferência um coli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Uma caminha mac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Uma canção de nin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Uma história bem boni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Então, dormir e sonha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Embora eu não seja re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Decreto, neste paí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Que toda, toda cri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Tem direito a ser feliz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1840" y="1440000"/>
            <a:ext cx="282888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6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2:47:58Z</dcterms:created>
  <dc:creator>almirante </dc:creator>
  <dc:description/>
  <dc:language>en-US</dc:language>
  <cp:lastModifiedBy>almirante </cp:lastModifiedBy>
  <dcterms:modified xsi:type="dcterms:W3CDTF">2010-12-06T13:11:58Z</dcterms:modified>
  <cp:revision>4</cp:revision>
  <dc:subject/>
  <dc:title/>
</cp:coreProperties>
</file>